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5872-2424-409B-B831-6CF29BD02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B301-D39B-4EAC-8D99-14B95C01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5D01-DA91-45EA-8D9C-9924BC8FB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FC78-2661-43FC-882D-56526909C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D938-AB93-4B13-AC02-08294E3D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CFC2-294B-46CB-9155-48520A94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A6F9-8130-43AC-BC1F-E51AAE1F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CA54-3596-45E9-9628-F3FDB18B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596E-D7C2-463A-A1D3-12ED3192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D0AA-2148-424C-93DE-11C83C05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1EB0-04E8-428A-97C3-DFABFF05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6A1D-072D-4D0F-B2D9-77836DBE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E7BB-E698-4353-B6F9-C0098641A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a popul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541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group of organisms of the same species, living in the same pl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41907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Plankton"/>
          <p:cNvPicPr/>
          <p:nvPr/>
        </p:nvPicPr>
        <p:blipFill>
          <a:blip r:embed="rId1"/>
          <a:stretch/>
        </p:blipFill>
        <p:spPr>
          <a:xfrm>
            <a:off x="5181480" y="3200400"/>
            <a:ext cx="2857680" cy="1962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66880" cy="2279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a commun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541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veral populations (of different species) living in the same pl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143000" y="3200400"/>
            <a:ext cx="295272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5486400" y="1295280"/>
            <a:ext cx="5162400" cy="42246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an ecosyst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541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community and the place where it lives, including nonliving par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057400" y="1219320"/>
            <a:ext cx="5029200" cy="4162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69720" y="2787480"/>
            <a:ext cx="1524240" cy="723960"/>
          </a:xfrm>
          <a:prstGeom prst="borderCallout1">
            <a:avLst>
              <a:gd name="adj1" fmla="val 18750"/>
              <a:gd name="adj2" fmla="val -8333"/>
              <a:gd name="adj3" fmla="val 151754"/>
              <a:gd name="adj4" fmla="val 125731"/>
            </a:avLst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91520" y="1600200"/>
            <a:ext cx="1523880" cy="723960"/>
          </a:xfrm>
          <a:prstGeom prst="borderCallout1">
            <a:avLst>
              <a:gd name="adj1" fmla="val 18750"/>
              <a:gd name="adj2" fmla="val -8333"/>
              <a:gd name="adj3" fmla="val -875"/>
              <a:gd name="adj4" fmla="val -63125"/>
            </a:avLst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10280" y="3200400"/>
            <a:ext cx="1828800" cy="723960"/>
          </a:xfrm>
          <a:prstGeom prst="borderCallout1">
            <a:avLst>
              <a:gd name="adj1" fmla="val 18750"/>
              <a:gd name="adj2" fmla="val -8333"/>
              <a:gd name="adj3" fmla="val -13814"/>
              <a:gd name="adj4" fmla="val -50347"/>
            </a:avLst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living and nonliving things in an ecosys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otic - nonl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tic - l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14600" y="3581280"/>
            <a:ext cx="342900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rple loosestrife is an invasive plant species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Purple loosestrife is just one of many invasive species affecting ecosystems in Wisconsin."/>
          <p:cNvPicPr/>
          <p:nvPr/>
        </p:nvPicPr>
        <p:blipFill>
          <a:blip r:embed="rId1"/>
          <a:stretch/>
        </p:blipFill>
        <p:spPr>
          <a:xfrm>
            <a:off x="4952880" y="1600200"/>
            <a:ext cx="2494080" cy="3429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295280" y="1600200"/>
            <a:ext cx="2405160" cy="3543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880" y="518148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 competes with native species in wetlands – and usually wi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y attach to almost anything and eat all the small organism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closeup of zebra mussels on stick"/>
          <p:cNvPicPr/>
          <p:nvPr/>
        </p:nvPicPr>
        <p:blipFill>
          <a:blip r:embed="rId1"/>
          <a:stretch/>
        </p:blipFill>
        <p:spPr>
          <a:xfrm>
            <a:off x="1438200" y="1752480"/>
            <a:ext cx="2908440" cy="4648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crayfish covered with zebra mussels"/>
          <p:cNvPicPr/>
          <p:nvPr/>
        </p:nvPicPr>
        <p:blipFill>
          <a:blip r:embed="rId2"/>
          <a:stretch/>
        </p:blipFill>
        <p:spPr>
          <a:xfrm>
            <a:off x="5181480" y="1752480"/>
            <a:ext cx="2865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541008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re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81080" y="1677960"/>
            <a:ext cx="5029200" cy="3375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" y="304920"/>
            <a:ext cx="8229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pulation size is also affected by living factor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dators limit the population of their pre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3006720" cy="3733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7200" y="5486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ation can caus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xtinction,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t usually doesn’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happens when the predators are remo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594360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5:03:01Z</dcterms:created>
  <dc:creator>Marguerite K Marcoux</dc:creator>
  <dc:description/>
  <dc:language>en-US</dc:language>
  <cp:lastModifiedBy>Administrator</cp:lastModifiedBy>
  <dcterms:modified xsi:type="dcterms:W3CDTF">2009-09-28T15:22:18Z</dcterms:modified>
  <cp:revision>8</cp:revision>
  <dc:subject/>
  <dc:title>Population size</dc:title>
</cp:coreProperties>
</file>